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65032D-D820-43F2-9FAA-BD44D6E8A3D9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A6A4C-8614-4262-A2E5-E99322C36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4BBAE5-F08D-45D0-B930-EAFB0F963E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4698F7-E9BF-479C-9CDC-DE57636DBB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A2534-C949-4C0F-BC3E-B50DBA729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BCB973-5058-4680-B3D1-BE44B2C65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4702D2-50F5-44D0-9F37-8A995D0A3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8D02AD-61E4-4815-BA45-A35CB7881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2852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7C0E4B-6206-4F3C-B03D-9B24C34DCF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B8B135-AAF3-4A8E-84B1-0D67A472C2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DEFD1-61D5-4F98-ACD6-368AE1A8F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F776AF-9DB2-4436-B56F-04907995B4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12852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54360"/>
            <a:ext cx="2131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54720"/>
            <a:ext cx="289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354360"/>
            <a:ext cx="2132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pl-PL" sz="1800" spc="-1" strike="noStrike">
                <a:solidFill>
                  <a:srgbClr val="000000"/>
                </a:solidFill>
                <a:latin typeface="Calibri"/>
                <a:ea typeface="DejaVu Sans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E1BFF8D3-377F-47B6-B9D7-ABB24E6E6C71}" type="slidenum">
              <a:rPr b="0" lang="pl-PL" sz="1800" spc="-1" strike="noStrike">
                <a:solidFill>
                  <a:srgbClr val="000000"/>
                </a:solidFill>
                <a:latin typeface="Calibri"/>
                <a:ea typeface="DejaVu Sans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First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Secon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pl-PL" sz="4400" spc="-1" strike="noStrike">
                <a:solidFill>
                  <a:srgbClr val="000000"/>
                </a:solidFill>
                <a:latin typeface="Calibri"/>
              </a:rPr>
              <a:t>Third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7T08:54:53Z</dcterms:created>
  <dc:creator>Lukasz</dc:creator>
  <dc:description/>
  <dc:language>en-US</dc:language>
  <cp:lastModifiedBy>Lukasz</cp:lastModifiedBy>
  <dcterms:modified xsi:type="dcterms:W3CDTF">2012-02-07T08:57:32Z</dcterms:modified>
  <cp:revision>1</cp:revision>
  <dc:subject/>
  <dc:title>First Slide</dc:title>
</cp:coreProperties>
</file>